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13.wmf" ContentType="image/x-wmf"/>
  <Override PartName="/ppt/media/image9.png" ContentType="image/png"/>
  <Override PartName="/ppt/media/image17.wmf" ContentType="image/x-wmf"/>
  <Override PartName="/ppt/media/image16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683F-3673-412A-8AFA-12421180B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E1D6-29CD-4C8F-A233-B1DD74D83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19A3-AFB4-47A3-B6D6-237C32052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6A71-30FD-43B7-9CBA-3157151D9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2683-696F-4A4B-8528-0D5405930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A2CE-6C92-4603-BCF1-4D46B4182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A7C9-528D-4B8E-B068-834587B86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3911-2DD6-4863-9263-22F5FE33C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EAAA-EF56-4B7A-8F3B-17FBA419E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5E8C-D5E9-477E-BDC7-F548615E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34CA-132A-4C67-AED1-E089E776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3C8E-A48A-42D3-82AF-A010C87E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649B7-CC58-450B-A437-6E7650BDD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users.ez2.net/ohp/Mark%20Sports/Skate%20Material/Coastsiders/Warren%20Ramp%20Mark%20Center%20March%201978_2lg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1b2c3.com/drugs/pictures/hashnep1a.jpg&amp;imgrefurl=http://www.a1b2c3.com/drugs/pictures/hashnep1.htm&amp;h=228&amp;w=177&amp;sz=8&amp;tbnid=785EBRLCGGAJ:&amp;tbnh=101&amp;tbnw=79&amp;start=16&amp;prev=/images%3Fq%3Drubbing%2Bhands%26hl%3Den%26lr%3D%26sa%3DN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0"/>
            <a:ext cx="7086600" cy="640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FORC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AND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OTION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848720" y="53341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371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en an object is in motion it tends to stay .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371600" y="1828800"/>
            <a:ext cx="60958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in motion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4267080"/>
            <a:ext cx="1814400" cy="181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2.79704E-006 L 1.04167 -0.56588 E">
                                      <p:cBhvr>
                                        <p:cTn id="83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en an object is still it tends to remain .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04920" y="2743200"/>
            <a:ext cx="4952880" cy="21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still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105520" y="1905120"/>
            <a:ext cx="3579840" cy="197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762120" y="1143000"/>
            <a:ext cx="7391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his is called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990720" y="3110040"/>
            <a:ext cx="7162560" cy="28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INERTIA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57200" y="1295280"/>
            <a:ext cx="75438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he use of a force to move an object is ________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3276720"/>
            <a:ext cx="2971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6600ff"/>
                </a:solidFill>
                <a:latin typeface="Arial"/>
              </a:rPr>
              <a:t>work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4800600"/>
            <a:ext cx="5791320" cy="17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5.42765E-006 L 0.375 -5.42765E-006 E">
                                      <p:cBhvr>
                                        <p:cTn id="108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" dur="2000" fill="hold"/>
                                        <p:tgtEl>
                                          <p:spTgt spid="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90720" y="1143000"/>
            <a:ext cx="7010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he ability to do work is called _________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743200" y="327672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33cc33"/>
                </a:solidFill>
                <a:latin typeface="Arial"/>
              </a:rPr>
              <a:t>energ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4" dur="2000" fill="hold"/>
                                        <p:tgtEl>
                                          <p:spTgt spid="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09480" y="149400"/>
            <a:ext cx="6705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he energy of motion is __________ energy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00200" y="2133720"/>
            <a:ext cx="426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66ff"/>
                </a:solidFill>
                <a:latin typeface="Arial"/>
              </a:rPr>
              <a:t>kinetic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267080" y="1981080"/>
            <a:ext cx="4191120" cy="37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3" dur="2000" fill="hold"/>
                                        <p:tgtEl>
                                          <p:spTgt spid="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>
            <a:hlinkClick r:id="rId1"/>
          </p:cNvPr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5033880" y="3554280"/>
            <a:ext cx="3576600" cy="27702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09480" y="228600"/>
            <a:ext cx="6553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he energy of position is _____________ energy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05120" y="2209680"/>
            <a:ext cx="426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d60093"/>
                </a:solidFill>
                <a:latin typeface="Arial"/>
              </a:rPr>
              <a:t>potentia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2" dur="2000" fill="hold"/>
                                        <p:tgtEl>
                                          <p:spTgt spid="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066680"/>
            <a:ext cx="914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33cc33"/>
                </a:solidFill>
                <a:latin typeface="Arial"/>
              </a:rPr>
              <a:t>Name the </a:t>
            </a:r>
            <a:r>
              <a:rPr b="1" i="1" lang="en-US" sz="8000" spc="-1" strike="noStrike">
                <a:solidFill>
                  <a:srgbClr val="d60093"/>
                </a:solidFill>
                <a:latin typeface="Arial"/>
              </a:rPr>
              <a:t>frame of reference</a:t>
            </a:r>
            <a:r>
              <a:rPr b="1" i="1" lang="en-US" sz="8000" spc="-1" strike="noStrike">
                <a:solidFill>
                  <a:srgbClr val="33cc33"/>
                </a:solidFill>
                <a:latin typeface="Arial"/>
              </a:rPr>
              <a:t> in each of the following statements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871880" y="2286000"/>
            <a:ext cx="3662640" cy="36561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04920" y="533520"/>
            <a:ext cx="6324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 dog is beside the hous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2819520"/>
            <a:ext cx="35053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hous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800600" y="1371600"/>
            <a:ext cx="4038480" cy="2973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80880" y="685800"/>
            <a:ext cx="525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 duck is swimming in the pond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09680" y="4419720"/>
            <a:ext cx="358164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ond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2085840"/>
            <a:ext cx="6858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ou can tell that an object has moved when its __________ has change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76520" y="3595680"/>
            <a:ext cx="335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Arial"/>
              </a:rPr>
              <a:t>posi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259056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00301 C 0.2342 -0.05741 0.4684 -0.11783 0.55868 1.48148E-006 C 0.64896 0.11782 0.54497 0.59143 0.54132 0.71018 E">
                                      <p:cBhvr>
                                        <p:cTn id="12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80880" y="1447920"/>
            <a:ext cx="8229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00"/>
                </a:solidFill>
                <a:latin typeface="Arial"/>
              </a:rPr>
              <a:t>Name the type of </a:t>
            </a:r>
            <a:r>
              <a:rPr b="1" i="1" lang="en-US" sz="7200" spc="-1" strike="noStrike">
                <a:solidFill>
                  <a:srgbClr val="3366ff"/>
                </a:solidFill>
                <a:latin typeface="Arial"/>
              </a:rPr>
              <a:t>energy</a:t>
            </a:r>
            <a:r>
              <a:rPr b="1" i="1" lang="en-US" sz="7200" spc="-1" strike="noStrike">
                <a:solidFill>
                  <a:srgbClr val="000000"/>
                </a:solidFill>
                <a:latin typeface="Arial"/>
              </a:rPr>
              <a:t> in each of the following statements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09480" y="1143000"/>
            <a:ext cx="807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ball is rolling down the hill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981080" y="3105000"/>
            <a:ext cx="5791320" cy="299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KINETIC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304920"/>
            <a:ext cx="8153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roller coaster is sitting at the top of the track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95280" y="3200400"/>
            <a:ext cx="647712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POTENTI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38080" y="91440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pencil fell off the edge of the desk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981080" y="3105000"/>
            <a:ext cx="5791320" cy="299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KINETIC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57200" y="60948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skier is at the top of the ski jump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295280" y="3200400"/>
            <a:ext cx="647712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POTENTI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23880" y="2475000"/>
            <a:ext cx="5996160" cy="4259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666880" y="350532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66"/>
                </a:solidFill>
                <a:latin typeface="Arial"/>
              </a:rPr>
              <a:t>frame of refere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228600"/>
            <a:ext cx="8534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object used for comparing another object to describe its position is called a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80880" y="76320"/>
            <a:ext cx="8229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distance an object moves in a certain amount of time is called _________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1600200"/>
            <a:ext cx="29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ff"/>
                </a:solidFill>
                <a:latin typeface="Arial"/>
              </a:rPr>
              <a:t>sp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1676520" cy="1527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705720" y="4572000"/>
            <a:ext cx="243828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34998E-006 L -0.75834 -0.00046 E">
                                      <p:cBhvr>
                                        <p:cTn id="30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952880" y="1295280"/>
            <a:ext cx="38862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 ______ graph can be used to show the change in an object’s speed over tim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19920" y="1295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d60093"/>
                </a:solidFill>
                <a:latin typeface="Arial"/>
              </a:rPr>
              <a:t>li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04920" y="2109960"/>
            <a:ext cx="4038480" cy="39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" dur="2000" fill="hold"/>
                                        <p:tgtEl>
                                          <p:spTgt spid="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880" y="15228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at makes objects change speed or direction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590920" y="1905120"/>
            <a:ext cx="60958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ORC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2514600" cy="2187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895480" y="4853160"/>
            <a:ext cx="5791320" cy="17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30492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at unit is used to measure force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00040" y="2438280"/>
            <a:ext cx="3614760" cy="27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NEWTON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9344" t="28540" r="41630" b="12924"/>
          <a:stretch/>
        </p:blipFill>
        <p:spPr>
          <a:xfrm>
            <a:off x="5562720" y="1219320"/>
            <a:ext cx="3124080" cy="2286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 rot="15889200">
            <a:off x="4267080" y="3803040"/>
            <a:ext cx="1904760" cy="1905120"/>
          </a:xfrm>
          <a:prstGeom prst="wedgeEllipseCallout">
            <a:avLst>
              <a:gd name="adj1" fmla="val -41550"/>
              <a:gd name="adj2" fmla="val 651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95680" y="44197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UM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010280" y="3733920"/>
            <a:ext cx="1905120" cy="18288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that kind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609480"/>
            <a:ext cx="7848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at is a force between surfaces that slows or stops objec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828800" y="3110040"/>
            <a:ext cx="6248520" cy="31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RIC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520" y="914400"/>
            <a:ext cx="761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Friction creates ______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2057400"/>
            <a:ext cx="2514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6600"/>
                </a:solidFill>
                <a:latin typeface="Arial"/>
              </a:rPr>
              <a:t>he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>
            <a:hlinkClick r:id="rId1"/>
          </p:cNvPr>
          <p:cNvPicPr/>
          <p:nvPr/>
        </p:nvPicPr>
        <p:blipFill>
          <a:blip r:embed="rId2"/>
          <a:srcRect l="0" t="25007" r="0" b="0"/>
          <a:stretch/>
        </p:blipFill>
        <p:spPr>
          <a:xfrm>
            <a:off x="4195800" y="2971800"/>
            <a:ext cx="3576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" dur="2000" fill="hold"/>
                                        <p:tgtEl>
                                          <p:spTgt spid="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17:12:55Z</dcterms:created>
  <dc:creator>Salem City Schools</dc:creator>
  <dc:description/>
  <dc:language>en-US</dc:language>
  <cp:lastModifiedBy>Technology Services</cp:lastModifiedBy>
  <dcterms:modified xsi:type="dcterms:W3CDTF">2011-06-13T19:44:14Z</dcterms:modified>
  <cp:revision>6</cp:revision>
  <dc:subject/>
  <dc:title>Slide 1</dc:title>
</cp:coreProperties>
</file>